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AEA-2946-4861-8DA0-4B179131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4DB-7A8F-4F36-A6EA-4B5984E8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D79-0FDE-4E5A-8654-5306D9F0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2E6-A42A-4119-B0BA-5388F794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1EBF-860F-4194-863C-B566F39D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49BB-5A9F-4A14-816D-13C3659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774B-9561-4C02-B686-5C74FB9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626-D229-4525-806D-DCED3F8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BCEB-BDE3-4F16-8A62-A4CBFBB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B04F-0171-43DE-9749-3714360E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309C-5F1F-4498-8DB4-89BDCB3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0F6-C8C4-449C-9D68-05187380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A0EE-67F9-4DA1-9BD3-3D1A5A0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0FA9-9EE3-4CD0-B91C-82CB365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C210-CBEF-498E-BE0F-D3B49E6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5070-0769-4DBC-95BA-E9A866D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BAD1-BDC9-4C41-AB94-2B26C72E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875-E6D1-4B6A-B5B3-3D98A7B2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900-D9B4-40D5-B215-0734BB14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4F1-55AD-44DD-9525-AAB666D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F68-6FF9-4C3B-AC04-71C6EB9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12B-2713-438D-A4CE-C123931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F41-F711-4BEF-A91A-7CFD4EC2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A71-9757-4E1F-8181-F969448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8EA-E552-45E1-BEFC-9A6801DFF7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F1A-A2AF-4F74-98DF-011EBB3B5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Иван Вазов</a:t>
            </a:r>
            <a:br>
              <a:rPr sz="66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850г.-1921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ласик на българската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1542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3095640" cy="250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16360" y="1268280"/>
            <a:ext cx="421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ван Минчов Вазов е роден в гр. Сопот на 9 юли 185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емейството на заможен търгове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ща му настойчиво се стремял да направи сина си търговец, но Иван наследил от майка се Съба поетичен дар и интерес към литератур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024000" cy="2236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35290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-4680" y="2205000"/>
            <a:ext cx="447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аща му го изпраща в Румъния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да помага в търговската канто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чичо си, но Вазов избяг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е озовава сре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ългарските хъшо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Браи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95280" y="479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ълго време живее в Пловдив, участва в обществения жив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дактор е на вестниц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ъздава своите известни творби  ”Под игото”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опея  на забравените”, “Хъшове”-  в които опис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ционалноосвободителните борб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436840" cy="3816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2376720" cy="374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49080" y="189000"/>
            <a:ext cx="58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умъния   Иван Вазов   се среща с   Христо Ботев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г титан в българската литерату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16000" y="4941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ед Освобождението продължава литературната си дейност, за две години е министър на народната прос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дните 20 години от живота си отдава на творчеството си в тихата двуетажна къща в София- сега превърната в м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518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345744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2952720" cy="2076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3168720" cy="18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4080" y="3471840"/>
            <a:ext cx="33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метникът на Незнайния войн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иховете са на Иван Ваз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26720" y="47451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обът на Ваз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6165720"/>
            <a:ext cx="36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одният театър  ”Иван Вазо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818240" cy="36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7800" y="465300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ъща – музей “Иван Вазов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.Соп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3828960" cy="510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43480" y="589752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ІІІ А клас- октомври 201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7:39:35Z</dcterms:created>
  <dc:creator>Home</dc:creator>
  <dc:description/>
  <dc:language>en-US</dc:language>
  <cp:lastModifiedBy>Home</cp:lastModifiedBy>
  <dcterms:modified xsi:type="dcterms:W3CDTF">2013-02-17T18:30:29Z</dcterms:modified>
  <cp:revision>3</cp:revision>
  <dc:subject/>
  <dc:title>Иван Вазов</dc:title>
</cp:coreProperties>
</file>